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2CD-1280-4D7B-9E9C-FE4D8F83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5D8-F7A0-4DCF-AFA5-D949E84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7BB41E-D0EE-4EE9-982D-39457A7F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A7E22-3B45-43B2-8F6A-5D824E3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B2E91-7BA8-446C-802C-2817EAF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B0822-8944-4703-8D6E-0ABDB92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AFAB5-8A3B-4745-BEED-36A3ECE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FE1C7-F11A-47FF-AB24-03B0C90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F16DA-F512-4EB2-9438-CF5AC194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E87C5-2D0F-400C-A37E-1A9BD013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3D043-902E-48D2-ABBD-CFA1C473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900-C5DA-46ED-862C-C493EE5B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2BE-06DD-4950-AE8D-CD6C92BF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181D1-2D27-4525-A38F-01CBE0C7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BE85C-938C-4827-A1E1-7BB5D17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38474-AFED-44F7-9CD9-967755D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18D9-AC21-4CE3-9119-9E47D14D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6BF32-66A8-4C2B-84EF-41770769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A3860-CD76-400B-B089-7979A61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6222F-202D-4F42-AA7C-92FAF86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A9B-2BB0-47CB-97D4-5950740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5AF9F-E1C1-4EDD-81AF-4642CDD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EACF-17F4-4263-AD44-E9D3914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972F-C518-4C81-B39D-F8FAB6B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02198-A5E5-4F38-BE8E-3C04E989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48AAB-FB4E-4604-BCBA-4931F8B4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BE20-4D06-4066-B0F3-CE2ECF85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07A4-1D4A-4875-BA50-DE1B6BA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169A-C24B-4423-B046-AB175905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75E6-3051-4D8C-9B7A-DF030A35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75D0-6F82-409C-BDF4-4A8955E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3EE-27E4-431F-BFD1-1E1B46F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0C69-054E-42D0-B953-E19F523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F5AE-3061-4D0F-98A6-0326919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B8D3-770D-4427-A972-DD56586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62FB-A2B7-42DC-9426-EACC08D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6CE8-4B73-482B-80E5-1B59BE21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8EC5-A92D-431D-8962-41407F1D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214C-B978-4B16-B34A-5E0BCB94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B324A-B611-4C8B-8D86-F91274C1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75C19-0EB0-4E7C-838D-1120816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3E386-0358-485C-9784-B9D7420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619-E7F4-432F-8613-3D356C6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0E684-A843-4B80-96A1-5861D01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76254-6B4F-450D-AC25-3092642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1D939-1292-48A8-B201-B74494D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EF6F1-1182-4ECE-A283-94C2286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945E2-7FCE-4F54-B9F4-CB40273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604A3-E47D-41D2-B895-E783F5E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699FF-6754-4D52-962C-EBCBA1EF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A5A66-F754-4D4A-964F-E8EC3B5B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A4E38-33BD-46E9-9DF7-E9D0E673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75CD-1778-43C3-8779-ADD56726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E59-AF6A-4398-86BC-FC10187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B34E-B910-4280-B930-C508BE1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5B46-E97C-4C53-9CA7-B19F9560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9FE5-D948-4737-B55D-8F66052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F92E-5E50-4F1C-AB4E-E09514F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4371-F831-4F8B-9F8A-39F687B8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DE7D-57F2-45C8-B852-D3DD340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3BC9-475E-4778-A4CE-968C0EA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F55F-5780-4A80-8A6F-119F8E5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6C2A-DD75-49F9-ABDE-8E067425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899B-4FDC-4BE4-B662-987A2FE2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9F9-6CC5-4804-B6AA-22C229D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0E84-172E-4988-8407-6FEA4AEF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A11A-D229-402B-9EEB-5F5DFA67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8D97-5FDD-43E7-B20A-89C017D9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BD4D-04C2-41C7-99CE-A22D2C4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BC41-93C8-41BB-95BC-2DED4A2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AED0-FE3D-422F-827C-8A0E9909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2C19-D784-436F-B69F-B20859C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CA7D6-0205-444A-B7C5-F41A09D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9B48-75E4-4CD1-96E4-F8B91A0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042D-342D-476F-A37D-FC33D36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257-3BCE-4D1A-B64F-BFA2737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F9373-FB2B-4DF6-BEA5-46B8A66A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E3CB-9F34-413D-BAA9-C92D69E9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D4A8-B117-470D-AD57-FAD20396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A719-B7A4-4512-8857-4606998F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15FC-CEAD-4039-B4DF-726E73B9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300F4-D2C8-4BA9-AA4A-0B302C58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29F8-325E-40F1-BA07-67856C8A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14C2-25B3-4AA8-B180-E298839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6865D-90EF-4044-85F8-1B70DA6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B3DA-D071-48E9-8D7B-7B90BFF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D1E-96FA-4284-9772-B0FCBA9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244B-A20D-4D46-B6B2-AE2459D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3C83-B89D-49C9-914E-173C53A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AE19-6BF2-42A9-99D5-28D2F97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7F94-1915-4A7C-97F9-7E7CC789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96B8-EDD0-45BC-BEB3-6CE32AE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71053-B4AB-4C92-8142-BD9281AC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88791-D55E-4E4D-A9BC-419BA83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95E5C-F04B-43F6-A22C-0B33898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6E11B-7CC7-402C-9962-A88C391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72A86-3996-4096-BF1D-DB57676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2DD-8EB2-4006-AA39-9BC001B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8AD75-2590-4342-A4C2-0677D9B4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0F034-424B-4539-B9A5-578C5D8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FD853-C64B-4FCC-8CF7-B287759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12898-CA16-4154-92D2-A17E9C2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E0A2C-A2DE-46FA-974D-5F957B0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E21D6-C995-4850-BCC5-4204A63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4C371-753C-4466-80DF-2872C11F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2AF493-94B0-4BB4-9816-67CB0A14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B1876A-4CE3-4822-862F-F6CA7E0E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3D01F-D52B-4E5D-8AF5-75C75ED1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7CF-90BB-4132-9415-B9E93E8019F0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9780-D2F3-42FC-AB9D-9F8CEEAED9E1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827B-CC8B-400F-B92C-83FCFCBE5863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A1B8-19E1-4820-8981-7C02094275FC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0EB0-240F-455F-B044-F87CA8FC1250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F3D-1FF9-4FDA-8A45-0EE7036FD63C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9D6-390E-499C-B2BD-8E71A3D0F3CF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57AB-8E38-4870-AB19-709458E6D856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602-CDF4-4EFE-B6CB-644CCCE09647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3 Título" descr=""/>
          <p:cNvPicPr/>
          <p:nvPr/>
        </p:nvPicPr>
        <p:blipFill>
          <a:blip r:embed="rId1"/>
          <a:stretch/>
        </p:blipFill>
        <p:spPr>
          <a:xfrm>
            <a:off x="725400" y="500040"/>
            <a:ext cx="8143920" cy="30481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22160" y="3287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La deforestación y transformación del paisaje vegetal ha respetado zonas de alta montaña y regiones apartadas. Todavía se conservan bosques de hayas y robles, bosques mediterráneos de quejigos, encinas o alcornoq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 principales de la degradación: </a:t>
            </a:r>
            <a:r>
              <a:rPr b="0" lang="es-ES" sz="3200" spc="-1" strike="noStrike">
                <a:solidFill>
                  <a:srgbClr val="ff0000"/>
                </a:solidFill>
                <a:latin typeface="Rockwell"/>
              </a:rPr>
              <a:t>incendios, técnicas de monocultivo, desertificació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3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190600" y="2224080"/>
            <a:ext cx="4762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571760" y="20527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ockwell"/>
              </a:rPr>
              <a:t>Naturales: rayo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ockwell"/>
              </a:rPr>
              <a:t>Inducidas por el hombre: descuidos, provocados para ampliar tierras de cultivos, aprovechar la madera quemada, recalificaciones, venganzas personales, etc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4884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Revisar la política de repoblaciones forestales, no abusando de especies pirófila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Fomentar la mezcla de especies y realizar trabajos de silvicultura preventiv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Tener en cuenta los intereses de la población rural a la hora de las explotaciones forestale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Establecer marcos legale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Mejorar sistemas de prevención, detección y extinción de incendi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Realizar campañas de sensibilizació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ffffff"/>
                </a:solidFill>
                <a:latin typeface="Rockwell"/>
              </a:rPr>
              <a:t>"</a:t>
            </a:r>
            <a:r>
              <a:rPr b="0" lang="es-ES_tradnl" sz="3800" spc="-1" strike="noStrike">
                <a:solidFill>
                  <a:srgbClr val="ffffff"/>
                </a:solidFill>
                <a:latin typeface="Rockwell"/>
              </a:rPr>
              <a:t>Por </a:t>
            </a:r>
            <a:r>
              <a:rPr b="0" lang="es-ES_tradnl" sz="3800" spc="-1" strike="noStrike">
                <a:solidFill>
                  <a:srgbClr val="ff0000"/>
                </a:solidFill>
                <a:latin typeface="Rockwell"/>
              </a:rPr>
              <a:t>diversidad biológica </a:t>
            </a:r>
            <a:r>
              <a:rPr b="0" lang="es-ES_tradnl" sz="3800" spc="-1" strike="noStrike">
                <a:solidFill>
                  <a:srgbClr val="ffffff"/>
                </a:solidFill>
                <a:latin typeface="Rockwell"/>
              </a:rPr>
              <a:t>se entiende la variabilidad de organismos vivos de cualquier fuente, incluidos, entre otras cosas, los ecosistemas terrestres y marinos y otros ecosistemas acuáticos y los complejos ecológicos de los que forman parte; comprende la diversidad dentro de cada especie, entre las especies y de los ecosistemas</a:t>
            </a:r>
            <a:r>
              <a:rPr b="1" i="1" lang="es-ES_tradnl" sz="3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3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3 Título" descr=""/>
          <p:cNvPicPr/>
          <p:nvPr/>
        </p:nvPicPr>
        <p:blipFill>
          <a:blip r:embed="rId1"/>
          <a:stretch/>
        </p:blipFill>
        <p:spPr>
          <a:xfrm>
            <a:off x="426960" y="-646200"/>
            <a:ext cx="8418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12500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Este concepto contiene tres ideas básicas: son los llamados </a:t>
            </a:r>
            <a:r>
              <a:rPr b="1" lang="es-ES_tradnl" sz="1800" spc="-1" strike="noStrike">
                <a:solidFill>
                  <a:srgbClr val="ffffff"/>
                </a:solidFill>
                <a:latin typeface="Rockwell"/>
              </a:rPr>
              <a:t>componentes de la biodiversidad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los ecosistem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variedad de sistemas ecológicos diferente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entidades biológicas naturales en las que la característica fundamental es la capacidad de intercambio genético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La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 diversidad genética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la variabilidad de genes que las especies contienen en sus poblaciones e individuos, que les hace ser ligeramente diferentes unos de otros y , con ello, les permite evolucionar y, en su caso, adaptarse a los cambios del medio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ff"/>
                </a:solidFill>
                <a:latin typeface="Rockwell"/>
              </a:rPr>
              <a:t>    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Rockwell"/>
              </a:rPr>
              <a:t>Artículo 2 del Convenio Internacional sobre la Diversidad Biológica. 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Rockwell"/>
              </a:rPr>
              <a:t>Conferencia de Naciones Unidad sobre Medio Ambiente y Desarrollo. Río de Janeiro 1992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a superficie del tamaño de diez campos de fútbol ubicado en las selvas de Borneo se pueden encontrar más especies de árboles que en todo el continente norteamericano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 solo árbol del Perú se han llegado a contabilizar un número de especies de hormigas similar al total de las que habitan en todas las islas Británicas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Panamá, con una superficie más de 6 veces menor que la española, contiene un número identificado de vertebrados terrestres más de dos veces y media superior al español (1424 frente a 534) y eso que España es uno de los enclaves de Europa con mayor biodiversidad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La biodiversidad es el fruto de millones de años de evolución, resultado de adaptación de la vida a los distintos ambientes y fruto de la selección natural. Proceso descrito básicamente por Charles Dar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2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186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5 Título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552160" cy="1469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Regiones polares y circumpo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Desiert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Áreas de alta montañ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Zonas húmed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Mang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Arrecifes de cor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rader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Bosques de coníferas y bosques caducifoli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Selv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forma resumida se podría decir que sin ella la vida del hombre sobre la Tierra sería imposibl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la biodiversidad dependen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a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fotosíntesi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si no existiesen plantas no habría fotosíntesi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ella, a su vez, depende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La producción primaria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síntesis de materia  orgánica a partir de la luz solar, agua y 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Base de toda red trófica de los ecosistemas, incluyendo al hombr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Producción de oxígeno y eliminación del C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, con lo que los organismos aerobios no podrían realizar su respiración. Ello, además, contribuye al mantenimiento de la composición gaseosa de la atmósfera y a la estabilidad climátic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4787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765000"/>
            <a:ext cx="822960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b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formación y el mantenimiento de los suel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sin ellos no existirían las plantas y sin ellas no existiría la vid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c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ciclos biogeoquím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mecanismos naturales de reciclado de la materia, entre los que destacan la mineralización y saneamiento de los productos orgánicos de desecho. La ausencia de microorganismos, hongos, artrópodos y otros invertebrados implicaría la inmediata inhabitabilidad de la biosfera solo por la interrupción de esta función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d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flujos energét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a lo largo de los distintos componentes de la biocenosi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e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polinización y diseminación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de semilla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f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El control de la erosión del suelo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9792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692280"/>
            <a:ext cx="82296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g)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Rockwell"/>
              </a:rPr>
              <a:t>Control de poblaciones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: la biodiversidad contribuye al mantenimiento de toda una serie de ajustes entre las distintas poblaciones lo que evita crecimientos explosivos de alguna de ellas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h)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Rockwell"/>
              </a:rPr>
              <a:t>La alimentación humana y la obtención de productos farmacéuticos: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La alimentación humana depende en un 99% de sustancias producidas  directamente por los seres viv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Más del 40% de todos los medicamentos comercializados provienen   directamente de sustancias proporcionadas por los seres viv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4264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 Cuantos nuevos productos farmacéuticos, alimentarios o industriales obtenidos directamente o a través de la utilización de la biotecnología sobre el potencial genético procedente de la biodiversidad se perderán con la desaparición de nuevas especies, hoy todavía desconocida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400" y="1000080"/>
            <a:ext cx="82580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La extinción de las especies depende en un 99% de causas producidas por el hombre: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Unas 100.000 especies están desapareciendo al año y de seguir con el ritmo actual la cuarta parte de todas las especies desaparecerá en un plazo de  unos 30 años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La mayor tragedia en la pérdida de la biodiversidad corresponde al proceso de destrucción de los ecosistemas más ricos en ella: los bosques tropicales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2 Título" descr=""/>
          <p:cNvPicPr/>
          <p:nvPr/>
        </p:nvPicPr>
        <p:blipFill>
          <a:blip r:embed="rId1"/>
          <a:stretch/>
        </p:blipFill>
        <p:spPr>
          <a:xfrm>
            <a:off x="785880" y="0"/>
            <a:ext cx="8235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2664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981000"/>
            <a:ext cx="8229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Se estima que unos 20 millones de hectáreas de bosques tropicales desaparecen cada año por tala o quema. Esto supone una superficie tal que representa la desaparición, cada dos años y medio, de un territorio, donde se alberga más de la mitad de todas las especies de la tierra,  similar al total de Españ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La mayor parte de las especies que hoy desaparecen son desconocid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Realmente se ha pasado de una situación en la que la extinción de especies estaba liderada por mecanismos de acoso directo: caza y pesca, fundamentalmente, a la actualidad, en donde es el deterioro global de la biosfera el que preside la amenaza sobre la biodiversidad. Las especies desaparecen porque sus medios naturales de vida se degradan o desaparece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2844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eterioro, destrucción y fragmentación de los hábitats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Desecado de humed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reación de Autopistas (osos asturianos)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Destrucción de bosques.</a:t>
            </a: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analización de rí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Grandes embalses que inundan selvas y val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Introducción de especies exóticas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angrejo Americano en Europa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onejos en Australia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4" name="2 Título" descr=""/>
          <p:cNvPicPr/>
          <p:nvPr/>
        </p:nvPicPr>
        <p:blipFill>
          <a:blip r:embed="rId1"/>
          <a:stretch/>
        </p:blipFill>
        <p:spPr>
          <a:xfrm>
            <a:off x="500040" y="-171360"/>
            <a:ext cx="8485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16920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3330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Sobreexplotación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forestación (tala masiva de bosques tropicales)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Sobrepesc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Caza excesiv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Recolección de determinadas plantas (medicinales, etc.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4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ontaminación de suelos, aguas y atmósfer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5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ambio climátic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6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dustrialización e intensificación agrícola y forest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Extensas superficies de monocultivos atiborrados de plaguicidas y fertilizantes.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Plantaciones forestales de especies de rápido  crecimiento en lugares inadecuados y con métodos destructores del medio natur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1235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Junto con todo lo anteriormente descrito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Hambre en el mundo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Inundaciones: consecuencia de la deforestación. Levante español. En Bangladesh por la deforestación del Himalay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Desertificación.    Toda pérdida de la biodiversidad: la degradación de un bosque, la pérdida de una especie, la desaparición de una raza autóctona, etc. conlleva una pérdida de nuestra calidad de vida, de nuestras expectativas de vivir mejor y un aumento de la ya larga cuenta negra de nuestra responsabilidad ética para con nuestros descendient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457200" y="-146160"/>
            <a:ext cx="854064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77300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Protección de especies en peligro de extinción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Establecimiento de sistemas de explotación sostenible</a:t>
            </a:r>
            <a:r>
              <a:rPr b="0" lang="es-ES_tradnl" sz="20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leyes de caza y pesca, establecimiento de cotos y períodos de veda que eviten la sobreexplotación de las distintas especies animales y vegetale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Protección de los distintos ecosistemas</a:t>
            </a:r>
            <a:r>
              <a:rPr b="0" lang="es-ES_tradnl" sz="20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0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cencos.org/files/images/Manglares.jpg"/>
          <p:cNvPicPr/>
          <p:nvPr/>
        </p:nvPicPr>
        <p:blipFill>
          <a:blip r:embed="rId1"/>
          <a:stretch/>
        </p:blipFill>
        <p:spPr>
          <a:xfrm>
            <a:off x="1785960" y="128592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Rockwell"/>
              </a:rPr>
              <a:t>Creación de bancos de genes</a:t>
            </a:r>
            <a:r>
              <a:rPr b="0" lang="es-ES_tradnl" sz="2400" spc="-1" strike="noStrike">
                <a:solidFill>
                  <a:srgbClr val="ff0000"/>
                </a:solidFill>
                <a:latin typeface="Rockwell"/>
              </a:rPr>
              <a:t>,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jardines botánicos y fomento, para determinadas especies, de cría en cautividad: Aunque no es la mejor solución puede contribuir a la perdurabilidad de ciertas espec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Rockwell"/>
              </a:rPr>
              <a:t>A nivel personal, se deberá evitar el coleccionismo</a:t>
            </a:r>
            <a:r>
              <a:rPr b="0" lang="es-ES_tradnl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de especies vegetales o animales, tanto autóctonas como exóticas; la adquisición de animales de compañía en riesgo de extinción o la introducción de especies exóticas en nuestros hábita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estaticos04.ocholeguas.com/imagenes/2008/09/04/1219401715_0.jpg"/>
          <p:cNvPicPr/>
          <p:nvPr/>
        </p:nvPicPr>
        <p:blipFill>
          <a:blip r:embed="rId1"/>
          <a:stretch/>
        </p:blipFill>
        <p:spPr>
          <a:xfrm>
            <a:off x="1857240" y="1500120"/>
            <a:ext cx="4381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kalipedia.com/kalipediamedia/cienciasnaturales/media/200704/17/tierrayuniverso/20070417klpcnatun_255.Ies.SCO.jpg"/>
          <p:cNvPicPr/>
          <p:nvPr/>
        </p:nvPicPr>
        <p:blipFill>
          <a:blip r:embed="rId1"/>
          <a:stretch/>
        </p:blipFill>
        <p:spPr>
          <a:xfrm>
            <a:off x="500040" y="1357200"/>
            <a:ext cx="4786200" cy="353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teknociencia.files.wordpress.com/2009/07/coral_4.jpg"/>
          <p:cNvPicPr/>
          <p:nvPr/>
        </p:nvPicPr>
        <p:blipFill>
          <a:blip r:embed="rId2"/>
          <a:stretch/>
        </p:blipFill>
        <p:spPr>
          <a:xfrm>
            <a:off x="5715000" y="1000080"/>
            <a:ext cx="2857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http://files.nireblog.com/blogs4/procladeyanapay/files/selva.jpg"/>
          <p:cNvPicPr/>
          <p:nvPr/>
        </p:nvPicPr>
        <p:blipFill>
          <a:blip r:embed="rId1"/>
          <a:stretch/>
        </p:blipFill>
        <p:spPr>
          <a:xfrm>
            <a:off x="5572080" y="18572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http://eltamiz.com/wp-content/uploads/2007/12/selva-tropical.jpg"/>
          <p:cNvPicPr/>
          <p:nvPr/>
        </p:nvPicPr>
        <p:blipFill>
          <a:blip r:embed="rId2"/>
          <a:stretch/>
        </p:blipFill>
        <p:spPr>
          <a:xfrm>
            <a:off x="428760" y="571680"/>
            <a:ext cx="50482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html.rincondelvago.com/files/3/2/4/000633241.jpg"/>
          <p:cNvPicPr/>
          <p:nvPr/>
        </p:nvPicPr>
        <p:blipFill>
          <a:blip r:embed="rId1"/>
          <a:stretch/>
        </p:blipFill>
        <p:spPr>
          <a:xfrm>
            <a:off x="571680" y="1643040"/>
            <a:ext cx="2381040" cy="24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kalipedia.com/kalipediamedia/cienciasnaturales/media/200704/17/tierrayuniverso/20070417klpcnatun_386.Ies.SCO.jpg"/>
          <p:cNvPicPr/>
          <p:nvPr/>
        </p:nvPicPr>
        <p:blipFill>
          <a:blip r:embed="rId2"/>
          <a:stretch/>
        </p:blipFill>
        <p:spPr>
          <a:xfrm>
            <a:off x="3214800" y="1500120"/>
            <a:ext cx="5286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4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0200" cy="1785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xplotaciones madederas indiscriminada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gricultura transito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Desarrollo de pastos para ganad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Minería a cielo abiert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mbalses gigantesc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515440" cy="141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lanes económico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ondonación de deuda extern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Usos tradicionales del bosque (extracción de caucho, frutas, semillas..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ultivo de plant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ría de animales nativ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iscicultu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Ecoturism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5:55:25Z</dcterms:created>
  <dc:creator>Inma</dc:creator>
  <dc:description/>
  <dc:language>en-US</dc:language>
  <cp:lastModifiedBy>inma</cp:lastModifiedBy>
  <dcterms:modified xsi:type="dcterms:W3CDTF">2012-04-09T16:51:30Z</dcterms:modified>
  <cp:revision>30</cp:revision>
  <dc:subject/>
  <dc:title>Impactos en la biosfera</dc:title>
</cp:coreProperties>
</file>